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22E-98A1-4E5E-982B-087DDEE3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7C9-37F8-4807-ABC9-4743DEFC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E91-A212-4BC8-9DB7-58B71E68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467-CD6B-4F8A-A72E-FEDBF0C2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02B-84C4-424D-865E-F91A069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3CF-2BB8-4BDB-AC3E-6FBD4D0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AB1-C83D-43CC-8F2D-FA2ED37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33F-1E99-4032-BC91-4B07837D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088-6527-4E85-998C-2A04D050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911-85C9-4B2F-8096-282B677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E32-6A8F-46D0-8DA7-FFA070C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F30-3F13-4E86-A06A-C3778AE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68B-4C3A-4B0F-8B14-54B8A2C67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Graff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hwinder K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.967 Ambient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st,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a physical space using a yellow sticky 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rrow has 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t the message associated with the arrow when you SMS the code to their service from your mobil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mensional barcodes that encode a web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phone camera reads the semacodes and connects user to related web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5334120"/>
            <a:ext cx="340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quity game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m 30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acintosh HD:Users:isha:Desktop:conqwest_320x240.mov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-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tagged messages from 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otes (user drive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through the notes using content based and social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is to connect to other users through Geo-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-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92200" y="6019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m 19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Macintosh HD:Users:isha:Desktop:GeoNotes600_480_10fps_44Mhz.mpg" descr=""/>
          <p:cNvPicPr/>
          <p:nvPr/>
        </p:nvPicPr>
        <p:blipFill>
          <a:blip r:embed="rId1"/>
          <a:stretch/>
        </p:blipFill>
        <p:spPr>
          <a:xfrm>
            <a:off x="1447920" y="1554120"/>
            <a:ext cx="6248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Tape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419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and publishing location specific content wireles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Fi, GPRS, GPS, 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sound maps of environments and jour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hemeral content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 and accre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Macintosh HD:Users:isha:Desktop:UTContexts_sml.mp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48769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 m 47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graffiti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graff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3040" y="61722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m 58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acintosh HD:Users:isha:Desktop:parasite_large.mov" descr=""/>
          <p:cNvPicPr/>
          <p:nvPr/>
        </p:nvPicPr>
        <p:blipFill>
          <a:blip r:embed="rId1"/>
          <a:stretch/>
        </p:blipFill>
        <p:spPr>
          <a:xfrm>
            <a:off x="2209680" y="2530440"/>
            <a:ext cx="46483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Arrow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yellowarrow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co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semacode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Not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geonotes.sics.s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tapestri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urbantapestries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projection from subway tra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gunnargreen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2:44:43Z</dcterms:created>
  <dc:creator>Ishwinder Kaur</dc:creator>
  <dc:description/>
  <dc:language>en-US</dc:language>
  <cp:lastModifiedBy>Ishwinder Kaur Banga</cp:lastModifiedBy>
  <dcterms:modified xsi:type="dcterms:W3CDTF">2006-03-08T14:20:18Z</dcterms:modified>
  <cp:revision>46</cp:revision>
  <dc:subject/>
  <dc:title>Graffiti, Message boards, Reminder systems, Mailboxes…</dc:title>
</cp:coreProperties>
</file>